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0000" y="4689360"/>
            <a:ext cx="494352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C8CA-3CD8-4766-8533-BF87E091BDB2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0000" y="4689360"/>
            <a:ext cx="4943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tshållare för bildnumm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DE3B-0D83-40FD-BB6A-5D23A2D8B3AE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0000" y="4689360"/>
            <a:ext cx="4943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tshållare för bildnumm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493D-BD34-46B9-95DF-D0B8098C3DE5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0000" y="4689360"/>
            <a:ext cx="4943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tshållare för bildnumm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EE64-E2EC-4537-A4B6-12EA60480842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0000" y="4689360"/>
            <a:ext cx="4943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tshållare för bildnumm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7045-865D-4FC2-A31A-6F26352C1CAC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842472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8920" y="3849840"/>
            <a:ext cx="842472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920" y="384984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4984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600" y="107640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6280" y="107640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8920" y="384984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600" y="384984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6280" y="384984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8920" y="1076400"/>
            <a:ext cx="8424720" cy="53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842472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8920" y="254160"/>
            <a:ext cx="842472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8920" y="384984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4984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8920" y="3849840"/>
            <a:ext cx="842472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920" y="1076400"/>
            <a:ext cx="842472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67560"/>
            <a:ext cx="9144000" cy="19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r" pos="8953560"/>
                <a:tab algn="l" pos="9144000"/>
                <a:tab algn="l" pos="10058400"/>
              </a:tabLst>
            </a:pPr>
            <a:r>
              <a:rPr b="1" lang="sv-SE" sz="800" spc="-1" strike="noStrike">
                <a:solidFill>
                  <a:srgbClr val="ffffff"/>
                </a:solidFill>
                <a:latin typeface="Arial"/>
              </a:rPr>
              <a:t>Matlab project, Application of Linear algebra, 2D &amp; 3D – modelling and computer graphic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169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r" pos="8953560"/>
                <a:tab algn="l" pos="9144000"/>
                <a:tab algn="l" pos="1005840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Verdana"/>
              </a:rPr>
              <a:t>Blekinge Institute of Technology, Anders Hultgren, autumn 2009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924360" y="2976480"/>
            <a:ext cx="5162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600" spc="-1" strike="noStrike">
                <a:solidFill>
                  <a:srgbClr val="000000"/>
                </a:solidFill>
                <a:latin typeface="Verdana"/>
              </a:rPr>
              <a:t>Några programmeringsbegrepp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8920" y="1076400"/>
            <a:ext cx="842472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fta löses beräknings- och simuleringsuppgifter i Matlab genom att skriva enkla program. I kursen ET1505 behöver vi tre enkla programmeringsbegrepp för att karaktärisera skriptets struktur. Dessa tre ä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ekvens, dvs vi radar upp instruktionerna i den följd som de ska exekve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elektion, dvs beroende på ett beräkningsutfall väljer vi att exekvera olika instruktion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teration, dvs vi upprepar en uppsättning instruktioner ett antal gång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På följande tre sidor illustreras dessa begrepp genom att hänvisa till olika delar av programmeringen i filen rayrectangle.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600" spc="-1" strike="noStrike">
                <a:solidFill>
                  <a:srgbClr val="000000"/>
                </a:solidFill>
                <a:latin typeface="Verdana"/>
              </a:rPr>
              <a:t>Sekvens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8560" y="1076040"/>
            <a:ext cx="5879880" cy="52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Verdana"/>
              </a:rPr>
              <a:t>Sekvens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: en följd av instrukti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ktangel 3"/>
          <p:cNvSpPr/>
          <p:nvPr/>
        </p:nvSpPr>
        <p:spPr>
          <a:xfrm>
            <a:off x="542880" y="2685960"/>
            <a:ext cx="1400400" cy="56196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Operation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ktangel 9"/>
          <p:cNvSpPr/>
          <p:nvPr/>
        </p:nvSpPr>
        <p:spPr>
          <a:xfrm>
            <a:off x="542880" y="3648240"/>
            <a:ext cx="1390680" cy="56196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Operation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ktangel 10"/>
          <p:cNvSpPr/>
          <p:nvPr/>
        </p:nvSpPr>
        <p:spPr>
          <a:xfrm>
            <a:off x="552600" y="4629240"/>
            <a:ext cx="1390680" cy="56196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Operation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ak 14"/>
          <p:cNvSpPr/>
          <p:nvPr/>
        </p:nvSpPr>
        <p:spPr>
          <a:xfrm flipH="1">
            <a:off x="1247400" y="5210280"/>
            <a:ext cx="468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tshållare för innehåll 2"/>
          <p:cNvSpPr/>
          <p:nvPr/>
        </p:nvSpPr>
        <p:spPr>
          <a:xfrm>
            <a:off x="2838600" y="1695600"/>
            <a:ext cx="5867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xampel från mfilen rayrectangle.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tshållare för innehåll 2"/>
          <p:cNvSpPr/>
          <p:nvPr/>
        </p:nvSpPr>
        <p:spPr>
          <a:xfrm>
            <a:off x="2809800" y="2771640"/>
            <a:ext cx="6600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peration 1: Definition av en rektang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tshållare för innehåll 2"/>
          <p:cNvSpPr/>
          <p:nvPr/>
        </p:nvSpPr>
        <p:spPr>
          <a:xfrm>
            <a:off x="2819520" y="3695760"/>
            <a:ext cx="6657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peration 2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ition av lämpligt figurfön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tshållare för innehåll 2"/>
          <p:cNvSpPr/>
          <p:nvPr/>
        </p:nvSpPr>
        <p:spPr>
          <a:xfrm>
            <a:off x="2838600" y="4629240"/>
            <a:ext cx="6657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peration 3: Ritande av rektangel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ktangel med rundade hörn 20"/>
          <p:cNvSpPr/>
          <p:nvPr/>
        </p:nvSpPr>
        <p:spPr>
          <a:xfrm>
            <a:off x="619200" y="1781280"/>
            <a:ext cx="1305000" cy="504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1" name="Rak pil 24"/>
          <p:cNvCxnSpPr/>
          <p:nvPr/>
        </p:nvCxnSpPr>
        <p:spPr>
          <a:xfrm flipH="1">
            <a:off x="1247400" y="2276280"/>
            <a:ext cx="2160" cy="410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Rak pil 25"/>
          <p:cNvCxnSpPr/>
          <p:nvPr/>
        </p:nvCxnSpPr>
        <p:spPr>
          <a:xfrm flipH="1">
            <a:off x="1247400" y="3240000"/>
            <a:ext cx="2160" cy="4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Rak pil 26"/>
          <p:cNvCxnSpPr/>
          <p:nvPr/>
        </p:nvCxnSpPr>
        <p:spPr>
          <a:xfrm flipH="1">
            <a:off x="1257120" y="4221000"/>
            <a:ext cx="2160" cy="4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textruta 15"/>
          <p:cNvSpPr/>
          <p:nvPr/>
        </p:nvSpPr>
        <p:spPr>
          <a:xfrm>
            <a:off x="1067400" y="5699160"/>
            <a:ext cx="2347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Verdana"/>
              </a:rPr>
              <a:t>Sekvensen illustrerad av</a:t>
            </a:r>
            <a:br>
              <a:rPr sz="2400"/>
            </a:br>
            <a:r>
              <a:rPr b="1" lang="sv-SE" sz="2400" spc="-1" strike="noStrike">
                <a:solidFill>
                  <a:srgbClr val="000000"/>
                </a:solidFill>
                <a:latin typeface="Verdana"/>
              </a:rPr>
              <a:t>flödesschemasymbo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600" spc="-1" strike="noStrike">
                <a:solidFill>
                  <a:srgbClr val="000000"/>
                </a:solidFill>
                <a:latin typeface="Verdana"/>
              </a:rPr>
              <a:t>Selektion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49200" y="1142640"/>
            <a:ext cx="25560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0000"/>
                </a:solidFill>
                <a:latin typeface="Verdana"/>
              </a:rPr>
              <a:t>Selek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ktangel 3"/>
          <p:cNvSpPr/>
          <p:nvPr/>
        </p:nvSpPr>
        <p:spPr>
          <a:xfrm>
            <a:off x="1800360" y="1552680"/>
            <a:ext cx="1400040" cy="60012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r = r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ktangel 4"/>
          <p:cNvSpPr/>
          <p:nvPr/>
        </p:nvSpPr>
        <p:spPr>
          <a:xfrm>
            <a:off x="438120" y="3400560"/>
            <a:ext cx="1390680" cy="56196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Operation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ktangel 5"/>
          <p:cNvSpPr/>
          <p:nvPr/>
        </p:nvSpPr>
        <p:spPr>
          <a:xfrm>
            <a:off x="3343320" y="3362400"/>
            <a:ext cx="1390680" cy="56196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Operation 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ak 7"/>
          <p:cNvSpPr/>
          <p:nvPr/>
        </p:nvSpPr>
        <p:spPr>
          <a:xfrm flipH="1">
            <a:off x="1114200" y="3943440"/>
            <a:ext cx="468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ak 8"/>
          <p:cNvSpPr/>
          <p:nvPr/>
        </p:nvSpPr>
        <p:spPr>
          <a:xfrm flipH="1">
            <a:off x="4019400" y="3943440"/>
            <a:ext cx="504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ak 11"/>
          <p:cNvSpPr/>
          <p:nvPr/>
        </p:nvSpPr>
        <p:spPr>
          <a:xfrm flipH="1">
            <a:off x="2495160" y="1190520"/>
            <a:ext cx="468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3" name="Rak pil 13"/>
          <p:cNvCxnSpPr/>
          <p:nvPr/>
        </p:nvCxnSpPr>
        <p:spPr>
          <a:xfrm>
            <a:off x="2486520" y="2144520"/>
            <a:ext cx="5400" cy="384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Rak 15"/>
          <p:cNvSpPr/>
          <p:nvPr/>
        </p:nvSpPr>
        <p:spPr>
          <a:xfrm flipH="1">
            <a:off x="1736640" y="2537640"/>
            <a:ext cx="75240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ak 16"/>
          <p:cNvSpPr/>
          <p:nvPr/>
        </p:nvSpPr>
        <p:spPr>
          <a:xfrm flipH="1" flipV="1">
            <a:off x="2490840" y="2538360"/>
            <a:ext cx="738000" cy="38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ak 17"/>
          <p:cNvSpPr/>
          <p:nvPr/>
        </p:nvSpPr>
        <p:spPr>
          <a:xfrm flipH="1">
            <a:off x="2503440" y="2925000"/>
            <a:ext cx="719280" cy="4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ak 18"/>
          <p:cNvSpPr/>
          <p:nvPr/>
        </p:nvSpPr>
        <p:spPr>
          <a:xfrm>
            <a:off x="1738440" y="2976480"/>
            <a:ext cx="77148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ruta 23"/>
          <p:cNvSpPr/>
          <p:nvPr/>
        </p:nvSpPr>
        <p:spPr>
          <a:xfrm>
            <a:off x="2077560" y="27518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0000"/>
                </a:solidFill>
                <a:latin typeface="Verdana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ak 25"/>
          <p:cNvSpPr/>
          <p:nvPr/>
        </p:nvSpPr>
        <p:spPr>
          <a:xfrm>
            <a:off x="3228840" y="292428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80" name="Rak pil 26"/>
          <p:cNvCxnSpPr/>
          <p:nvPr/>
        </p:nvCxnSpPr>
        <p:spPr>
          <a:xfrm flipH="1">
            <a:off x="4009680" y="2925720"/>
            <a:ext cx="2160" cy="4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Rak 28"/>
          <p:cNvSpPr/>
          <p:nvPr/>
        </p:nvSpPr>
        <p:spPr>
          <a:xfrm flipH="1">
            <a:off x="1095120" y="2981160"/>
            <a:ext cx="65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82" name="Rak pil 29"/>
          <p:cNvCxnSpPr/>
          <p:nvPr/>
        </p:nvCxnSpPr>
        <p:spPr>
          <a:xfrm flipH="1">
            <a:off x="1095120" y="2973240"/>
            <a:ext cx="2160" cy="4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Platshållare för innehåll 2"/>
          <p:cNvSpPr/>
          <p:nvPr/>
        </p:nvSpPr>
        <p:spPr>
          <a:xfrm>
            <a:off x="5086440" y="1590840"/>
            <a:ext cx="3743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Beräkning av strål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tshållare för innehåll 2"/>
          <p:cNvSpPr/>
          <p:nvPr/>
        </p:nvSpPr>
        <p:spPr>
          <a:xfrm>
            <a:off x="5083200" y="2610000"/>
            <a:ext cx="324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Kontroll av kantdetek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tshållare för innehåll 2"/>
          <p:cNvSpPr/>
          <p:nvPr/>
        </p:nvSpPr>
        <p:spPr>
          <a:xfrm>
            <a:off x="5111640" y="3457440"/>
            <a:ext cx="37465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Alternativa operationer</a:t>
            </a:r>
            <a:br>
              <a:rPr sz="2000"/>
            </a:b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reflektera eller fortsät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ruta 22"/>
          <p:cNvSpPr/>
          <p:nvPr/>
        </p:nvSpPr>
        <p:spPr>
          <a:xfrm>
            <a:off x="1646640" y="4591080"/>
            <a:ext cx="225000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expre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lseif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expre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ruta 23"/>
          <p:cNvSpPr/>
          <p:nvPr/>
        </p:nvSpPr>
        <p:spPr>
          <a:xfrm>
            <a:off x="5500080" y="4613400"/>
            <a:ext cx="239040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if </a:t>
            </a: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r(2) &lt;= y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c=c-2*c(2)*[0;1]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lseif </a:t>
            </a: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r(1) &gt;= xma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c=c-2*c(1)*[1;0]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rg=r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ruta 24"/>
          <p:cNvSpPr/>
          <p:nvPr/>
        </p:nvSpPr>
        <p:spPr>
          <a:xfrm>
            <a:off x="325800" y="4984920"/>
            <a:ext cx="8514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tlab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tshållare för innehåll 2"/>
          <p:cNvSpPr/>
          <p:nvPr/>
        </p:nvSpPr>
        <p:spPr>
          <a:xfrm>
            <a:off x="3822840" y="1079640"/>
            <a:ext cx="5867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xampel från mfilen rayrectangle.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600" spc="-1" strike="noStrike">
                <a:solidFill>
                  <a:srgbClr val="000000"/>
                </a:solidFill>
                <a:latin typeface="Verdana"/>
              </a:rPr>
              <a:t>Iteration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8560" y="1076040"/>
            <a:ext cx="255564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0000"/>
                </a:solidFill>
                <a:latin typeface="Verdana"/>
              </a:rPr>
              <a:t>It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ktangel 4"/>
          <p:cNvSpPr/>
          <p:nvPr/>
        </p:nvSpPr>
        <p:spPr>
          <a:xfrm>
            <a:off x="1800360" y="1467000"/>
            <a:ext cx="1400040" cy="59976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v-SE" sz="1600" spc="-1" strike="noStrike">
                <a:solidFill>
                  <a:srgbClr val="ff0000"/>
                </a:solidFill>
                <a:latin typeface="Verdana"/>
              </a:rPr>
              <a:t>t =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ktangel 5"/>
          <p:cNvSpPr/>
          <p:nvPr/>
        </p:nvSpPr>
        <p:spPr>
          <a:xfrm>
            <a:off x="1790640" y="3705120"/>
            <a:ext cx="1390680" cy="56196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ak 9"/>
          <p:cNvSpPr/>
          <p:nvPr/>
        </p:nvSpPr>
        <p:spPr>
          <a:xfrm flipH="1">
            <a:off x="2495160" y="1104840"/>
            <a:ext cx="468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5" name="Rak pil 10"/>
          <p:cNvCxnSpPr/>
          <p:nvPr/>
        </p:nvCxnSpPr>
        <p:spPr>
          <a:xfrm>
            <a:off x="2486520" y="2058840"/>
            <a:ext cx="5400" cy="385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Rak 11"/>
          <p:cNvSpPr/>
          <p:nvPr/>
        </p:nvSpPr>
        <p:spPr>
          <a:xfrm flipH="1">
            <a:off x="1736640" y="2451960"/>
            <a:ext cx="75240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ak 12"/>
          <p:cNvSpPr/>
          <p:nvPr/>
        </p:nvSpPr>
        <p:spPr>
          <a:xfrm flipH="1" flipV="1">
            <a:off x="2490840" y="2452680"/>
            <a:ext cx="738000" cy="38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ak 13"/>
          <p:cNvSpPr/>
          <p:nvPr/>
        </p:nvSpPr>
        <p:spPr>
          <a:xfrm flipH="1">
            <a:off x="2503440" y="2839320"/>
            <a:ext cx="719280" cy="4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ak 14"/>
          <p:cNvSpPr/>
          <p:nvPr/>
        </p:nvSpPr>
        <p:spPr>
          <a:xfrm>
            <a:off x="1738440" y="2890800"/>
            <a:ext cx="77148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ruta 15"/>
          <p:cNvSpPr/>
          <p:nvPr/>
        </p:nvSpPr>
        <p:spPr>
          <a:xfrm>
            <a:off x="2129400" y="2529000"/>
            <a:ext cx="10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0000"/>
                </a:solidFill>
                <a:latin typeface="Verdana"/>
              </a:rPr>
              <a:t>Kontrol </a:t>
            </a:r>
            <a:br>
              <a:rPr sz="1800"/>
            </a:br>
            <a:r>
              <a:rPr b="0" lang="sv-SE" sz="1800" spc="-1" strike="noStrike">
                <a:solidFill>
                  <a:srgbClr val="ff0000"/>
                </a:solidFill>
                <a:latin typeface="Verdana"/>
              </a:rPr>
              <a:t>t&lt; kma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ak 16"/>
          <p:cNvSpPr/>
          <p:nvPr/>
        </p:nvSpPr>
        <p:spPr>
          <a:xfrm>
            <a:off x="3228840" y="283860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2" name="Rak pil 17"/>
          <p:cNvCxnSpPr/>
          <p:nvPr/>
        </p:nvCxnSpPr>
        <p:spPr>
          <a:xfrm flipH="1">
            <a:off x="4018680" y="2840040"/>
            <a:ext cx="2520" cy="4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Rak pil 19"/>
          <p:cNvCxnSpPr/>
          <p:nvPr/>
        </p:nvCxnSpPr>
        <p:spPr>
          <a:xfrm flipH="1">
            <a:off x="2514240" y="3278160"/>
            <a:ext cx="2160" cy="4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Platshållare för innehåll 2"/>
          <p:cNvSpPr/>
          <p:nvPr/>
        </p:nvSpPr>
        <p:spPr>
          <a:xfrm>
            <a:off x="4781520" y="1504800"/>
            <a:ext cx="3743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nitial tilldelning av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tshållare för innehåll 2"/>
          <p:cNvSpPr/>
          <p:nvPr/>
        </p:nvSpPr>
        <p:spPr>
          <a:xfrm>
            <a:off x="4743360" y="2619360"/>
            <a:ext cx="4229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Kontroll av uppnått värde på 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tshållare för innehåll 2"/>
          <p:cNvSpPr/>
          <p:nvPr/>
        </p:nvSpPr>
        <p:spPr>
          <a:xfrm>
            <a:off x="4740120" y="3733920"/>
            <a:ext cx="37465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terativ operation</a:t>
            </a:r>
            <a:br>
              <a:rPr sz="2000"/>
            </a:b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beräkna nästa punkt på strå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7" name="Rak pil 23"/>
          <p:cNvCxnSpPr/>
          <p:nvPr/>
        </p:nvCxnSpPr>
        <p:spPr>
          <a:xfrm flipH="1">
            <a:off x="2514240" y="4278240"/>
            <a:ext cx="2160" cy="4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Rektangel 24"/>
          <p:cNvSpPr/>
          <p:nvPr/>
        </p:nvSpPr>
        <p:spPr>
          <a:xfrm>
            <a:off x="1847880" y="4705200"/>
            <a:ext cx="1390680" cy="56196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0000"/>
                </a:solidFill>
                <a:latin typeface="Verdana"/>
              </a:rPr>
              <a:t>Updatera t=t+d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tshållare för innehåll 2"/>
          <p:cNvSpPr/>
          <p:nvPr/>
        </p:nvSpPr>
        <p:spPr>
          <a:xfrm>
            <a:off x="3305160" y="2295360"/>
            <a:ext cx="1000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falsk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tshållare för innehåll 2"/>
          <p:cNvSpPr/>
          <p:nvPr/>
        </p:nvSpPr>
        <p:spPr>
          <a:xfrm>
            <a:off x="1600200" y="3152880"/>
            <a:ext cx="762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ak 34"/>
          <p:cNvSpPr/>
          <p:nvPr/>
        </p:nvSpPr>
        <p:spPr>
          <a:xfrm>
            <a:off x="2543040" y="5267160"/>
            <a:ext cx="0" cy="41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ak 38"/>
          <p:cNvSpPr/>
          <p:nvPr/>
        </p:nvSpPr>
        <p:spPr>
          <a:xfrm flipH="1">
            <a:off x="781200" y="5695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ak 41"/>
          <p:cNvSpPr/>
          <p:nvPr/>
        </p:nvSpPr>
        <p:spPr>
          <a:xfrm flipV="1">
            <a:off x="789840" y="2257200"/>
            <a:ext cx="2844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4" name="Rak pil 43"/>
          <p:cNvCxnSpPr/>
          <p:nvPr/>
        </p:nvCxnSpPr>
        <p:spPr>
          <a:xfrm flipV="1">
            <a:off x="819000" y="2257200"/>
            <a:ext cx="1686960" cy="10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Platshållare för innehåll 2"/>
          <p:cNvSpPr/>
          <p:nvPr/>
        </p:nvSpPr>
        <p:spPr>
          <a:xfrm>
            <a:off x="4734000" y="4776840"/>
            <a:ext cx="42289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nkrement av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ktangel med rundade hörn 47"/>
          <p:cNvSpPr/>
          <p:nvPr/>
        </p:nvSpPr>
        <p:spPr>
          <a:xfrm>
            <a:off x="3419640" y="3247920"/>
            <a:ext cx="1304640" cy="505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v-SE" sz="1600" spc="-1" strike="noStrike">
                <a:solidFill>
                  <a:srgbClr val="ff0000"/>
                </a:solidFill>
                <a:latin typeface="Verdana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ruta 28"/>
          <p:cNvSpPr/>
          <p:nvPr/>
        </p:nvSpPr>
        <p:spPr>
          <a:xfrm>
            <a:off x="4146480" y="5381640"/>
            <a:ext cx="207036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Syntax in Matlab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0000"/>
                </a:solidFill>
                <a:latin typeface="Verdana"/>
              </a:rPr>
              <a:t>for t=1:dt:dt*kma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0000"/>
                </a:solidFill>
                <a:latin typeface="Verdana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tshållare för innehåll 2"/>
          <p:cNvSpPr/>
          <p:nvPr/>
        </p:nvSpPr>
        <p:spPr>
          <a:xfrm>
            <a:off x="3753000" y="1062000"/>
            <a:ext cx="5867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xampel från mfilen rayrectangle.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09:10:23Z</dcterms:created>
  <dc:creator>Mats Loock</dc:creator>
  <dc:description/>
  <dc:language>en-US</dc:language>
  <cp:lastModifiedBy>Anders Hultgren</cp:lastModifiedBy>
  <dcterms:modified xsi:type="dcterms:W3CDTF">2013-06-17T04:13:32Z</dcterms:modified>
  <cp:revision>365</cp:revision>
  <dc:subject>Ingenjörsvetenskap</dc:subject>
  <dc:title>Matematisk modellering A1, Algoritmer</dc:title>
</cp:coreProperties>
</file>